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4.png" ContentType="image/png"/>
  <Override PartName="/ppt/media/image24.gif" ContentType="image/gif"/>
  <Override PartName="/ppt/media/image27.gif" ContentType="image/gif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9.gif" ContentType="image/gif"/>
  <Override PartName="/ppt/media/image25.png" ContentType="image/png"/>
  <Override PartName="/ppt/media/image22.gif" ContentType="image/gif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4A43-601D-4F0B-B506-9FACAA861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058B-F9EC-4B25-8BAA-3ECEA650F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513E-6D4C-4D00-BC4B-FB737740A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B682-DBEF-4776-B3E1-6B620D8F3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597A-7A08-4ABC-B5D4-7C637F65B8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3C63-F720-4149-873B-514505C093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E623-5347-4E9A-AF99-B40976D82A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BA1C-44B0-41F8-A64C-C6590735B0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0677D-01E2-46FA-888B-E7BD5453D5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2703-8875-4AB9-93EE-F6441FC59D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FDB0-FBB8-46A8-9D63-C365A5B18C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2945-A89F-428E-9B69-4684F78B4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B6FC-D7CD-4C9C-B288-7EEFFFA58D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B914-26C5-4E95-83E0-61FF4D4A3D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986D-B524-4D7A-9A72-9C5232FEF1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D002-98F9-45BE-BF82-7C7E8DA10F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2556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03840" y="422100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4728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2556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03840" y="4997520"/>
            <a:ext cx="19789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B24B-6109-4E2E-B41D-483BA43A3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6B9D-7DAA-45F1-8952-C26867FFB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3E10-18D2-4C60-A658-913355C41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524D-2732-412D-B3A7-E18479036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804D-E765-4A1F-8B1E-8AD9606A4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B3F4-E38B-4049-8411-BCDDDE519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7280" y="499752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A534-5C37-4BE9-B187-4E885ADDA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280" y="4221000"/>
            <a:ext cx="299952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47280" y="4997520"/>
            <a:ext cx="6147000" cy="7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CE22-84ED-4A27-A9E7-6177A319F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8840" y="-93600"/>
            <a:ext cx="2772720" cy="6950160"/>
            <a:chOff x="-7884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ad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5600" y="3922560"/>
              <a:ext cx="889560" cy="719640"/>
              <a:chOff x="7560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2492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8440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792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5084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6840" y="2601000"/>
              <a:ext cx="2687040" cy="3117960"/>
              <a:chOff x="684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945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1196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657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9100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1540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60040" y="4055040"/>
                <a:ext cx="1833840" cy="1663920"/>
                <a:chOff x="86004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972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3604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992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75560" y="6174000"/>
              <a:ext cx="790560" cy="634680"/>
              <a:chOff x="47556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2132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932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9420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25080" y="1775880"/>
              <a:ext cx="785160" cy="693360"/>
              <a:chOff x="32508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4708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70128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2392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301760" y="0"/>
              <a:ext cx="546480" cy="581400"/>
              <a:chOff x="130176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30176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5196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9220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4616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9168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3020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556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92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b2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92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924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9168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908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8232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3636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92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9648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8100720" y="624348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3D27-3612-4F04-8597-768C0D702A3F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9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sldNum" idx="2"/>
          </p:nvPr>
        </p:nvSpPr>
        <p:spPr>
          <a:xfrm>
            <a:off x="7956720" y="6243480"/>
            <a:ext cx="86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F85-8D1B-4F33-B987-A92686417C0D}" type="slidenum">
              <a:rPr b="0" lang="en-GB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85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8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image" Target="../media/image24.gif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gif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flcymru.org.uk/vtc/depression_and_fronts/eng/Introduction/plenary.ht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bbc.co.uk/learningzone/clips/clips/s_geog/bb/s_geog_ec_02985_4x3_bb.asx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ow pressure areas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or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depressions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5ACC-52D6-4BD7-A9EA-3F2B1D6002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016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2C6A-BDF6-4D3D-9E7B-44E39C7A35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2240" y="2176560"/>
            <a:ext cx="8772480" cy="341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2E23-EC47-478A-BD3A-EEB1BC4DAD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0920" y="115920"/>
            <a:ext cx="4105080" cy="4249800"/>
            <a:chOff x="250920" y="115920"/>
            <a:chExt cx="4105080" cy="4249800"/>
          </a:xfrm>
        </p:grpSpPr>
        <p:pic>
          <p:nvPicPr>
            <p:cNvPr id="189" name="" descr=""/>
            <p:cNvPicPr/>
            <p:nvPr/>
          </p:nvPicPr>
          <p:blipFill>
            <a:blip r:embed="rId5"/>
            <a:srcRect l="50000" t="16622" r="1660" b="14121"/>
            <a:stretch/>
          </p:blipFill>
          <p:spPr>
            <a:xfrm>
              <a:off x="250920" y="115920"/>
              <a:ext cx="41050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309840" y="357336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6"/>
          <a:srcRect l="1115" t="48992" r="51496" b="18239"/>
          <a:stretch/>
        </p:blipFill>
        <p:spPr>
          <a:xfrm>
            <a:off x="324000" y="4292640"/>
            <a:ext cx="4032000" cy="201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42EF-E5B4-49AF-9691-D83DC350EB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0360" y="0"/>
            <a:ext cx="4140360" cy="4437000"/>
            <a:chOff x="360360" y="0"/>
            <a:chExt cx="4140360" cy="443700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49261" t="10031" r="0" b="15164"/>
            <a:stretch/>
          </p:blipFill>
          <p:spPr>
            <a:xfrm>
              <a:off x="360360" y="0"/>
              <a:ext cx="414036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84720" y="3787920"/>
              <a:ext cx="6804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6"/>
          <a:srcRect l="-354" t="47951" r="50746" b="19252"/>
          <a:stretch/>
        </p:blipFill>
        <p:spPr>
          <a:xfrm>
            <a:off x="0" y="4552920"/>
            <a:ext cx="482436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9841-E764-4B54-B982-7F713A0A6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4360" y="404640"/>
            <a:ext cx="3958560" cy="4103640"/>
            <a:chOff x="684360" y="404640"/>
            <a:chExt cx="3958560" cy="4103640"/>
          </a:xfrm>
        </p:grpSpPr>
        <p:pic>
          <p:nvPicPr>
            <p:cNvPr id="199" name="" descr=""/>
            <p:cNvPicPr/>
            <p:nvPr/>
          </p:nvPicPr>
          <p:blipFill>
            <a:blip r:embed="rId5"/>
            <a:srcRect l="49693" t="15520" r="696" b="14880"/>
            <a:stretch/>
          </p:blipFill>
          <p:spPr>
            <a:xfrm>
              <a:off x="684360" y="404640"/>
              <a:ext cx="395856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576240" y="3777840"/>
              <a:ext cx="69120" cy="72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6"/>
          <a:srcRect l="0" t="47879" r="50969" b="18126"/>
          <a:stretch/>
        </p:blipFill>
        <p:spPr>
          <a:xfrm>
            <a:off x="684360" y="4508640"/>
            <a:ext cx="4032000" cy="20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0BEB-7E66-4534-8E1E-C703392309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ol to cold or warm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clou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Any precipitation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Wind?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24000" y="333360"/>
            <a:ext cx="4284360" cy="6462720"/>
            <a:chOff x="324000" y="333360"/>
            <a:chExt cx="4284360" cy="646272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rcRect l="50310" t="16198" r="1754" b="15840"/>
            <a:stretch/>
          </p:blipFill>
          <p:spPr>
            <a:xfrm>
              <a:off x="324000" y="333360"/>
              <a:ext cx="4284360" cy="43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6"/>
            <a:srcRect l="1134" t="48842" r="50904" b="18804"/>
            <a:stretch/>
          </p:blipFill>
          <p:spPr>
            <a:xfrm>
              <a:off x="324000" y="4724280"/>
              <a:ext cx="42480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492360" y="4005360"/>
              <a:ext cx="698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16AE-72BB-4010-9D3C-E4856F9903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4"/>
          <p:cNvGrpSpPr/>
          <p:nvPr/>
        </p:nvGrpSpPr>
        <p:grpSpPr>
          <a:xfrm>
            <a:off x="1357200" y="785880"/>
            <a:ext cx="6500880" cy="2786040"/>
            <a:chOff x="1357200" y="785880"/>
            <a:chExt cx="6500880" cy="2786040"/>
          </a:xfrm>
        </p:grpSpPr>
        <p:pic>
          <p:nvPicPr>
            <p:cNvPr id="208" name="Picture 4" descr="06f.jpg"/>
            <p:cNvPicPr/>
            <p:nvPr/>
          </p:nvPicPr>
          <p:blipFill>
            <a:blip r:embed="rId1"/>
            <a:stretch/>
          </p:blipFill>
          <p:spPr>
            <a:xfrm>
              <a:off x="1357200" y="785880"/>
              <a:ext cx="6500880" cy="2786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sp>
          <p:nvSpPr>
            <p:cNvPr id="209" name="Oval 5"/>
            <p:cNvSpPr/>
            <p:nvPr/>
          </p:nvSpPr>
          <p:spPr>
            <a:xfrm>
              <a:off x="5786280" y="228600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Oval 6"/>
            <p:cNvSpPr/>
            <p:nvPr/>
          </p:nvSpPr>
          <p:spPr>
            <a:xfrm>
              <a:off x="5143320" y="242892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Oval 7"/>
            <p:cNvSpPr/>
            <p:nvPr/>
          </p:nvSpPr>
          <p:spPr>
            <a:xfrm>
              <a:off x="4438440" y="2508480"/>
              <a:ext cx="39816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Oval 8"/>
            <p:cNvSpPr/>
            <p:nvPr/>
          </p:nvSpPr>
          <p:spPr>
            <a:xfrm>
              <a:off x="3714480" y="250056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Oval 9"/>
            <p:cNvSpPr/>
            <p:nvPr/>
          </p:nvSpPr>
          <p:spPr>
            <a:xfrm>
              <a:off x="3143160" y="2214720"/>
              <a:ext cx="396720" cy="258480"/>
            </a:xfrm>
            <a:prstGeom prst="ellipse">
              <a:avLst/>
            </a:prstGeom>
            <a:solidFill>
              <a:srgbClr val="99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4" name="Right Arrow 3"/>
          <p:cNvSpPr/>
          <p:nvPr/>
        </p:nvSpPr>
        <p:spPr>
          <a:xfrm>
            <a:off x="3841920" y="2962440"/>
            <a:ext cx="1790640" cy="323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4200" y="3535200"/>
          <a:ext cx="8786880" cy="3170520"/>
        </p:xfrm>
        <a:graphic>
          <a:graphicData uri="http://schemas.openxmlformats.org/drawingml/2006/table">
            <a:tbl>
              <a:tblPr/>
              <a:tblGrid>
                <a:gridCol w="1643040"/>
                <a:gridCol w="1871640"/>
                <a:gridCol w="1757520"/>
                <a:gridCol w="1757520"/>
                <a:gridCol w="17571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hind the cold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 the cold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the warm sector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 the warm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head of the warm fron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 remains cold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s thin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is still a bit bluster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are showers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a sudden drop in temperatur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s thicken into big cumulonimbus cloud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speeds increase, sometimes to gale forc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heavy rain, sometimes with hail, sleet and thunder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emperatures are mild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loud becomes thinner and break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steadie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ain turns to drizzle and stop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s continue to ri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louds get thicker and lower (known as nimbostratus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ain is continuous and sometimes heav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wind veers and becomes blustery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high thin cloud called cirrus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rain at firs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 is quite cold but the temperatures start to ri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SzPct val="102950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speeds increas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6" name="Oval 14"/>
          <p:cNvSpPr/>
          <p:nvPr/>
        </p:nvSpPr>
        <p:spPr>
          <a:xfrm>
            <a:off x="735804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Oval 15"/>
          <p:cNvSpPr/>
          <p:nvPr/>
        </p:nvSpPr>
        <p:spPr>
          <a:xfrm>
            <a:off x="557208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Oval 16"/>
          <p:cNvSpPr/>
          <p:nvPr/>
        </p:nvSpPr>
        <p:spPr>
          <a:xfrm>
            <a:off x="3857760" y="3714840"/>
            <a:ext cx="28548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Oval 17"/>
          <p:cNvSpPr/>
          <p:nvPr/>
        </p:nvSpPr>
        <p:spPr>
          <a:xfrm>
            <a:off x="200016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Oval 18"/>
          <p:cNvSpPr/>
          <p:nvPr/>
        </p:nvSpPr>
        <p:spPr>
          <a:xfrm>
            <a:off x="357120" y="3714840"/>
            <a:ext cx="285840" cy="28584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714240" y="71280"/>
            <a:ext cx="8001000" cy="64260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hat are the expected weather conditions at each stage of a depression as it crosses Britain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2" name="Picture 39" descr="http://www.dollymix.tv/lisasimpson.jpg"/>
          <p:cNvPicPr/>
          <p:nvPr/>
        </p:nvPicPr>
        <p:blipFill>
          <a:blip r:embed="rId22"/>
          <a:stretch/>
        </p:blipFill>
        <p:spPr>
          <a:xfrm>
            <a:off x="71280" y="1714680"/>
            <a:ext cx="1162080" cy="1611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ular Callout 24"/>
          <p:cNvSpPr/>
          <p:nvPr/>
        </p:nvSpPr>
        <p:spPr>
          <a:xfrm>
            <a:off x="857160" y="1500120"/>
            <a:ext cx="1428840" cy="714600"/>
          </a:xfrm>
          <a:prstGeom prst="wedgeRectCallout">
            <a:avLst>
              <a:gd name="adj1" fmla="val -46625"/>
              <a:gd name="adj2" fmla="val 8924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to learn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72F9-99A8-4A10-802A-821641A79E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85840" y="785880"/>
          <a:ext cx="8572320" cy="521496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17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5" name="Picture 2" descr="Marge_shopsani.gif"/>
          <p:cNvPicPr/>
          <p:nvPr/>
        </p:nvPicPr>
        <p:blipFill>
          <a:blip r:embed="rId1"/>
          <a:stretch/>
        </p:blipFill>
        <p:spPr>
          <a:xfrm flipH="1">
            <a:off x="500040" y="836640"/>
            <a:ext cx="843120" cy="141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ular Callout 3"/>
          <p:cNvSpPr/>
          <p:nvPr/>
        </p:nvSpPr>
        <p:spPr>
          <a:xfrm>
            <a:off x="1500120" y="992160"/>
            <a:ext cx="1500120" cy="1428840"/>
          </a:xfrm>
          <a:prstGeom prst="wedgeRectCallout">
            <a:avLst>
              <a:gd name="adj1" fmla="val -85310"/>
              <a:gd name="adj2" fmla="val -7273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ge decides to give up on a day outdoors as the rain hasn't stopped for hours!  She decides to go shopping instead.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7" name="Picture 4" descr="Bart_on_skateboardani.gif"/>
          <p:cNvPicPr/>
          <p:nvPr/>
        </p:nvPicPr>
        <p:blipFill>
          <a:blip r:embed="rId2"/>
          <a:stretch/>
        </p:blipFill>
        <p:spPr>
          <a:xfrm>
            <a:off x="3143160" y="90792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ular Callout 5"/>
          <p:cNvSpPr/>
          <p:nvPr/>
        </p:nvSpPr>
        <p:spPr>
          <a:xfrm>
            <a:off x="4429080" y="1143000"/>
            <a:ext cx="1428840" cy="928800"/>
          </a:xfrm>
          <a:prstGeom prst="wedgeRectCallout">
            <a:avLst>
              <a:gd name="adj1" fmla="val -77125"/>
              <a:gd name="adj2" fmla="val -19407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winds nearly blow Bart off his skateboard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Picture 6" descr="Lisa_Simpson.png"/>
          <p:cNvPicPr/>
          <p:nvPr/>
        </p:nvPicPr>
        <p:blipFill>
          <a:blip r:embed="rId3"/>
          <a:stretch/>
        </p:blipFill>
        <p:spPr>
          <a:xfrm>
            <a:off x="6215040" y="919080"/>
            <a:ext cx="725400" cy="1214640"/>
          </a:xfrm>
          <a:prstGeom prst="rect">
            <a:avLst/>
          </a:prstGeom>
          <a:ln w="0">
            <a:noFill/>
          </a:ln>
        </p:spPr>
      </p:pic>
      <p:sp>
        <p:nvSpPr>
          <p:cNvPr id="230" name="Rectangular Callout 7"/>
          <p:cNvSpPr/>
          <p:nvPr/>
        </p:nvSpPr>
        <p:spPr>
          <a:xfrm>
            <a:off x="7143840" y="1071720"/>
            <a:ext cx="1571400" cy="1214280"/>
          </a:xfrm>
          <a:prstGeom prst="wedgeRectCallout">
            <a:avLst>
              <a:gd name="adj1" fmla="val -77125"/>
              <a:gd name="adj2" fmla="val -11101"/>
            </a:avLst>
          </a:prstGeom>
          <a:solidFill>
            <a:srgbClr val="ff9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a checks out her ‘Guide to Clouds’ book to find out the name of clouds that are high in the sky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1" name="Picture 8" descr="Grandpa_2.gif"/>
          <p:cNvPicPr/>
          <p:nvPr/>
        </p:nvPicPr>
        <p:blipFill>
          <a:blip r:embed="rId4"/>
          <a:stretch/>
        </p:blipFill>
        <p:spPr>
          <a:xfrm>
            <a:off x="7643880" y="2643120"/>
            <a:ext cx="998640" cy="1500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ular Callout 9"/>
          <p:cNvSpPr/>
          <p:nvPr/>
        </p:nvSpPr>
        <p:spPr>
          <a:xfrm>
            <a:off x="6215040" y="2637000"/>
            <a:ext cx="1500120" cy="1434960"/>
          </a:xfrm>
          <a:prstGeom prst="wedgeRectCallout">
            <a:avLst>
              <a:gd name="adj1" fmla="val 73069"/>
              <a:gd name="adj2" fmla="val -24337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mpa” switches on the news to hear that a weather depression going to affect Britain soo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10" descr="Maggie_Simpson.png"/>
          <p:cNvPicPr/>
          <p:nvPr/>
        </p:nvPicPr>
        <p:blipFill>
          <a:blip r:embed="rId5"/>
          <a:stretch/>
        </p:blipFill>
        <p:spPr>
          <a:xfrm>
            <a:off x="4668840" y="2786040"/>
            <a:ext cx="1117440" cy="1266840"/>
          </a:xfrm>
          <a:prstGeom prst="rect">
            <a:avLst/>
          </a:prstGeom>
          <a:ln w="0">
            <a:noFill/>
          </a:ln>
        </p:spPr>
      </p:pic>
      <p:sp>
        <p:nvSpPr>
          <p:cNvPr id="234" name="Rectangular Callout 11"/>
          <p:cNvSpPr/>
          <p:nvPr/>
        </p:nvSpPr>
        <p:spPr>
          <a:xfrm>
            <a:off x="3348000" y="2852640"/>
            <a:ext cx="1150920" cy="1071720"/>
          </a:xfrm>
          <a:prstGeom prst="wedgeRectCallout">
            <a:avLst>
              <a:gd name="adj1" fmla="val 80898"/>
              <a:gd name="adj2" fmla="val -19629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gie cheers up when the sun comes out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2" descr="bartdancani.gif"/>
          <p:cNvPicPr/>
          <p:nvPr/>
        </p:nvPicPr>
        <p:blipFill>
          <a:blip r:embed="rId6"/>
          <a:stretch/>
        </p:blipFill>
        <p:spPr>
          <a:xfrm>
            <a:off x="1928880" y="2565360"/>
            <a:ext cx="1190520" cy="1357200"/>
          </a:xfrm>
          <a:prstGeom prst="rect">
            <a:avLst/>
          </a:prstGeom>
          <a:ln w="0">
            <a:noFill/>
          </a:ln>
        </p:spPr>
      </p:pic>
      <p:sp>
        <p:nvSpPr>
          <p:cNvPr id="236" name="Rectangular Callout 13"/>
          <p:cNvSpPr/>
          <p:nvPr/>
        </p:nvSpPr>
        <p:spPr>
          <a:xfrm>
            <a:off x="428760" y="2714760"/>
            <a:ext cx="1643040" cy="1285920"/>
          </a:xfrm>
          <a:prstGeom prst="wedgeRectCallout">
            <a:avLst>
              <a:gd name="adj1" fmla="val 70708"/>
              <a:gd name="adj2" fmla="val -23013"/>
            </a:avLst>
          </a:pr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rt finds a new jacket in the park that’s just his size!  “Excellent”, he says, “its started to get cold and it looks like it might rain!”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7" name="Picture 14" descr="457px-Chief_Wiggum.png"/>
          <p:cNvPicPr/>
          <p:nvPr/>
        </p:nvPicPr>
        <p:blipFill>
          <a:blip r:embed="rId7"/>
          <a:stretch/>
        </p:blipFill>
        <p:spPr>
          <a:xfrm>
            <a:off x="357120" y="4365720"/>
            <a:ext cx="1000080" cy="1311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ular Callout 15"/>
          <p:cNvSpPr/>
          <p:nvPr/>
        </p:nvSpPr>
        <p:spPr>
          <a:xfrm>
            <a:off x="1285920" y="4365720"/>
            <a:ext cx="1714320" cy="1420560"/>
          </a:xfrm>
          <a:prstGeom prst="wedgeRectCallout">
            <a:avLst>
              <a:gd name="adj1" fmla="val -67870"/>
              <a:gd name="adj2" fmla="val -15921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hief Wiggum ventures out of his police car after heavy rain and thunder to buy his coffee and doughnut.  He wasn’t expecting to get caught in a rain shower!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Rectangular Callout 17"/>
          <p:cNvSpPr/>
          <p:nvPr/>
        </p:nvSpPr>
        <p:spPr>
          <a:xfrm>
            <a:off x="4143240" y="4376880"/>
            <a:ext cx="1714680" cy="1428480"/>
          </a:xfrm>
          <a:prstGeom prst="wedgeRectCallout">
            <a:avLst>
              <a:gd name="adj1" fmla="val -67833"/>
              <a:gd name="adj2" fmla="val -19032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Picture 18" descr="C-flanders.png"/>
          <p:cNvPicPr/>
          <p:nvPr/>
        </p:nvPicPr>
        <p:blipFill>
          <a:blip r:embed="rId8"/>
          <a:stretch/>
        </p:blipFill>
        <p:spPr>
          <a:xfrm>
            <a:off x="3144960" y="4286160"/>
            <a:ext cx="1317600" cy="1643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Millhouse_3ani.gif"/>
          <p:cNvPicPr/>
          <p:nvPr/>
        </p:nvPicPr>
        <p:blipFill>
          <a:blip r:embed="rId9"/>
          <a:stretch/>
        </p:blipFill>
        <p:spPr>
          <a:xfrm>
            <a:off x="6072120" y="4429080"/>
            <a:ext cx="6588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Rectangular Callout 19"/>
          <p:cNvSpPr/>
          <p:nvPr/>
        </p:nvSpPr>
        <p:spPr>
          <a:xfrm>
            <a:off x="6929280" y="4357800"/>
            <a:ext cx="1785960" cy="1500120"/>
          </a:xfrm>
          <a:prstGeom prst="wedgeRectCallout">
            <a:avLst>
              <a:gd name="adj1" fmla="val -67125"/>
              <a:gd name="adj2" fmla="val -5499"/>
            </a:avLst>
          </a:prstGeom>
          <a:solidFill>
            <a:srgbClr val="ffff4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TextBox 23"/>
          <p:cNvSpPr/>
          <p:nvPr/>
        </p:nvSpPr>
        <p:spPr>
          <a:xfrm>
            <a:off x="142920" y="115920"/>
            <a:ext cx="8858160" cy="7023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Arial"/>
              </a:rPr>
              <a:t>Where in the depression...? 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Read the following statements from characters in ‘The Simpsons’.  Decide which section of the depression (1-5) they are </a:t>
            </a:r>
            <a:r>
              <a:rPr b="1" lang="en-GB" sz="1200" spc="-1" strike="noStrike">
                <a:solidFill>
                  <a:srgbClr val="006699"/>
                </a:solidFill>
                <a:latin typeface="Arial"/>
              </a:rPr>
              <a:t>most likely</a:t>
            </a: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to be referring to.  Write your chosen number it in the box next to each statement.  Be ready to justify your decisions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4" name="Picture 2" descr="http://faqsmedia.ign.com/faqs/image/article/765/765842/doh_homer_left.jpg"/>
          <p:cNvPicPr/>
          <p:nvPr/>
        </p:nvPicPr>
        <p:blipFill>
          <a:blip r:embed="rId10"/>
          <a:stretch/>
        </p:blipFill>
        <p:spPr>
          <a:xfrm>
            <a:off x="7667640" y="5950080"/>
            <a:ext cx="936720" cy="861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5" name="Text Box 42"/>
          <p:cNvSpPr/>
          <p:nvPr/>
        </p:nvSpPr>
        <p:spPr>
          <a:xfrm>
            <a:off x="466560" y="6083280"/>
            <a:ext cx="230508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99"/>
                </a:solidFill>
                <a:latin typeface="Arial"/>
              </a:rPr>
              <a:t>Categorising information and making decisions to learn!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396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Rectangle 44"/>
          <p:cNvSpPr/>
          <p:nvPr/>
        </p:nvSpPr>
        <p:spPr>
          <a:xfrm>
            <a:off x="3276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6084720" y="206064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Rectangle 46"/>
          <p:cNvSpPr/>
          <p:nvPr/>
        </p:nvSpPr>
        <p:spPr>
          <a:xfrm>
            <a:off x="255600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543564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Rectangle 48"/>
          <p:cNvSpPr/>
          <p:nvPr/>
        </p:nvSpPr>
        <p:spPr>
          <a:xfrm>
            <a:off x="8244000" y="3860640"/>
            <a:ext cx="503280" cy="358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Rectangle 49"/>
          <p:cNvSpPr/>
          <p:nvPr/>
        </p:nvSpPr>
        <p:spPr>
          <a:xfrm>
            <a:off x="324000" y="5589720"/>
            <a:ext cx="50292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Rectangle 50"/>
          <p:cNvSpPr/>
          <p:nvPr/>
        </p:nvSpPr>
        <p:spPr>
          <a:xfrm>
            <a:off x="3203640" y="558972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Rectangle 51"/>
          <p:cNvSpPr/>
          <p:nvPr/>
        </p:nvSpPr>
        <p:spPr>
          <a:xfrm>
            <a:off x="6084720" y="5589720"/>
            <a:ext cx="503280" cy="35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Rounded Rectangular Callout 24"/>
          <p:cNvSpPr/>
          <p:nvPr/>
        </p:nvSpPr>
        <p:spPr>
          <a:xfrm>
            <a:off x="3635280" y="5950080"/>
            <a:ext cx="3363840" cy="863640"/>
          </a:xfrm>
          <a:prstGeom prst="wedgeRoundRectCallout">
            <a:avLst>
              <a:gd name="adj1" fmla="val 74115"/>
              <a:gd name="adj2" fmla="val 9740"/>
              <a:gd name="adj3" fmla="val 16667"/>
            </a:avLst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llenge!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blank speech bubbles.  Create two appropriate statements for a stage of the depressio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3884-2A08-4CCC-A4C5-E04CE54A15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99ff"/>
                </a:solidFill>
                <a:uFillTx/>
                <a:latin typeface="Comic Sans MS"/>
                <a:hlinkClick r:id="rId1"/>
              </a:rPr>
              <a:t>http://www.ngflcymru.org.uk/vtc/depression_and_fronts/eng/Introduction/plenary.htm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Go to the 3</a:t>
            </a:r>
            <a:r>
              <a:rPr b="1" lang="en-US" sz="3200" spc="-1" strike="noStrike" baseline="30000">
                <a:solidFill>
                  <a:srgbClr val="006699"/>
                </a:solidFill>
                <a:latin typeface="Comic Sans MS"/>
              </a:rPr>
              <a:t>rd</a:t>
            </a: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 part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8066-CDFD-4158-92CA-E639953FB6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Last week we saw why sometimes we get clear skies and warm sunny weather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But we haven’t had much at that this year!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4B69-6A3E-4FFA-886C-CAE8C6130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205160" cy="4681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 rot="21267600">
            <a:off x="1547640" y="333000"/>
            <a:ext cx="662472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449160" y="4079160"/>
            <a:ext cx="5366160" cy="1989360"/>
            <a:chOff x="3449160" y="4079160"/>
            <a:chExt cx="5366160" cy="1989360"/>
          </a:xfrm>
        </p:grpSpPr>
        <p:pic>
          <p:nvPicPr>
            <p:cNvPr id="170" name="" descr=""/>
            <p:cNvPicPr/>
            <p:nvPr/>
          </p:nvPicPr>
          <p:blipFill>
            <a:blip r:embed="rId3"/>
            <a:srcRect l="41635" t="55725" r="44826" b="38037"/>
            <a:stretch/>
          </p:blipFill>
          <p:spPr>
            <a:xfrm rot="378000">
              <a:off x="3537000" y="5189040"/>
              <a:ext cx="234972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rcRect l="10872" t="52040" r="58702" b="39032"/>
            <a:stretch/>
          </p:blipFill>
          <p:spPr>
            <a:xfrm rot="378000">
              <a:off x="3492000" y="4365360"/>
              <a:ext cx="52801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rcRect l="10946" t="60304" r="77150" b="36377"/>
            <a:stretch/>
          </p:blipFill>
          <p:spPr>
            <a:xfrm rot="378000">
              <a:off x="5780520" y="5505120"/>
              <a:ext cx="206604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BC65-FD06-45B8-BF71-C2C496823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Why?</a:t>
            </a:r>
            <a:endParaRPr b="1" lang="en-US" sz="48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4728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We have had a lot of low pressure areas called Depressions</a:t>
            </a:r>
            <a:endParaRPr b="1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5B15-B943-40C5-89B0-A61F10F35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At this point …</a:t>
            </a:r>
            <a:endParaRPr b="0" lang="en-US" sz="40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I hope we can watch a BBC video which explains it a rather well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Comic Sans MS"/>
                <a:hlinkClick r:id="rId3"/>
              </a:rPr>
              <a:t>http://www.bbc.co.uk/learningzone/clips/clips/s_geog/bb/s_geog_ec_02985_4x3_bb.asx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EFC1-EECD-41C5-8ADA-4D018C7249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Warm air and cool air do not mix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Between 45N and 64N cold air from the poles meets warm air from the topics to form a polar front</a:t>
            </a:r>
            <a:endParaRPr b="0" lang="en-US" sz="28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692360" y="333360"/>
            <a:ext cx="554508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4AC4-BD7E-4BE1-8378-65F90FB6B7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s warm air meets cold air, the temperature gradient is strengthened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is leads to instability and a wave forms that develops into a triangular shape – warm air inside the triangle and cold air outside i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rcRect l="32969" t="21311" r="7803" b="18238"/>
          <a:stretch/>
        </p:blipFill>
        <p:spPr>
          <a:xfrm>
            <a:off x="1692360" y="404640"/>
            <a:ext cx="575928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8BEE-FCA7-4107-BE56-383D924673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4797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leading edge of the depression is called the warm front. Here the warm air, which is lighter rises above the cold air in front of it.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he cold air moving behind the warm air travels faster and pushes its way under the warm air. This is a cold front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rcRect l="32969" t="21311" r="7803" b="18238"/>
          <a:stretch/>
        </p:blipFill>
        <p:spPr>
          <a:xfrm>
            <a:off x="1692360" y="404640"/>
            <a:ext cx="575928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86D8-4CC2-4925-942B-28B0AC36D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920" y="436572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At the top of the triangle pressure falls as the warm air rises in a spiral movement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Winds develop and blow around the centre of the low pressure in an anticlockwise direction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The boundary between the warm air and the cold air is called a front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763640" y="0"/>
            <a:ext cx="58327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CBD1-E604-45E6-8580-1247E21AF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5:28:53Z</dcterms:created>
  <dc:creator>Lindy</dc:creator>
  <dc:description/>
  <dc:language>en-US</dc:language>
  <cp:lastModifiedBy>Lindy</cp:lastModifiedBy>
  <dcterms:modified xsi:type="dcterms:W3CDTF">2009-10-03T14:36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